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9EE2-8662-4E08-96A4-85587BC59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927-898C-4645-8E4A-8671FB73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236-B3A4-43A6-BC71-B22F5CE1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15D-2D51-457B-8D1C-E08A68E2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A52-9ADA-4E99-A88A-D8A1D58F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EC6F-76C5-4D36-BFC6-92F232E3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9002-1619-467D-AC63-8E27BD48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A3F0-A3AE-4396-A954-D14D7579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249E-6E84-421A-B15D-59BDD230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D936-226B-4AB8-A96C-9D45E082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4531-4F10-48E4-B06D-5FDE74DB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763A-62E2-46A7-9DAE-8EF1193C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5FE-4DA6-49CC-B405-643BED09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83F4-9994-4232-85E1-92B89B8E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DAD3-40E6-443F-AD95-02DA72B7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7A99-CBB9-4F41-B7B4-ADC904F1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D9E8-C0E7-4415-82E9-953666DA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4E7C-C8B8-47FC-8DA9-15D74BA0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2C02-90F8-4A0D-B035-9AC6475C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0B852-3BBC-41A5-A0AC-BAF12453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FAE5-0177-4EC1-94D4-05441AD4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66D7-31C1-4A10-84F7-C507DC0A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0D824-EC38-4CB3-B7A9-2782D90D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33E-AE20-4526-8F26-8C15D0C2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2D5FD-B982-444C-8B6F-27AA88A9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AAFE-226F-47A7-AAE7-54DDA350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D2776-96F1-41D2-B872-12B2905A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3B9FA-DD07-43E2-913C-24E9F3F2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06C3-18E2-491F-BB98-E39C36BD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56B4F-C5E2-462F-823E-3AA2CBC9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7AF6F-94BB-44EB-91BA-5A206D07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53A09-D4A2-49B9-8C80-CEC03BA2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8DF48-42C5-4768-A6EB-FC892FE4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F8414-1477-4517-984B-FF0B78ED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6D9-3621-4156-A425-DD22AC03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B3B7B-34F5-4E25-8A21-6C648BA8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5FB1F-2E1D-49E8-AC4C-9872B901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D998-B9FB-4A1A-BE39-8869BEDA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D3030-2F4C-4C6E-A505-E4027372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496B8-FE18-4AE5-B8C7-630014A8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AB9FE-A2CA-4F96-BB1B-2DF6F020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6EE3A-F38C-4B5A-A4F6-DDD0128B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C2D1-CF1B-49BD-A203-A1913F87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5D58B-D4E5-47A3-BF6F-58A0B6B0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DD649-0D95-42FE-B951-EB2B49E1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D12-2BC7-496F-93D0-314D3495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15F22-40D9-45AA-BFD3-F6CF5710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7D37E-0CED-4230-A50E-6C3776E8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98266-6ADA-4E95-895B-E86853D7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BF97F-5B84-41F6-BCA1-7DD98F89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0C889-386D-4675-820D-75A1AFE2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D7D23-F15A-4A67-AAD0-52F6D4E3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3FA13-9725-4372-B4A7-0BAC9116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FE277-6529-43D9-AF26-98768F95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A85D7-175D-4FE8-8B38-57CE6AE5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D4E29-2487-486C-92FA-D0FAB02A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161-B77B-45C2-A354-C60F34C1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BA933-9E08-4823-B96E-B3712137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278-C995-4ACD-9669-6949F100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E0BB-3341-400D-B6DC-3E861AD7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81C-A7B5-4CF7-A8B6-88BD107D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4831-AF3D-486A-98E1-933300C6CDC7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49A0-E454-4024-B151-CC5D7699965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7C2B-5AF0-4EC1-9BF2-E1D1A102EE57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FABA-ED2E-4EDA-B29E-2F91E58CFC3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5BD1-934A-4944-810D-672617C84243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87D1-0E8A-465E-A06E-0C8CC0E6624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188D-FAB0-459B-AD36-5763528D4AB6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8E23-211F-42B1-AF29-3A250EC46C9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64D7-B23D-445B-8979-5131904466DA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C260-06D8-4947-8767-D1186C88A8C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4" descr="funny-pictu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 rot="18202200">
            <a:off x="1159920" y="893520"/>
            <a:ext cx="3008160" cy="932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Franklin Gothic Book"/>
              </a:rPr>
              <a:t>Topic</a:t>
            </a:r>
            <a:r>
              <a:rPr b="0" lang="en-US" sz="6500" spc="-1" strike="noStrike">
                <a:solidFill>
                  <a:srgbClr val="644646"/>
                </a:solidFill>
                <a:latin typeface="Franklin Gothic Book"/>
              </a:rPr>
              <a:t> </a:t>
            </a:r>
            <a:endParaRPr b="0" lang="en-US" sz="6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 rot="19206600">
            <a:off x="5562000" y="281916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Sense of hearing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3160" y="2174760"/>
            <a:ext cx="3963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chlea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mammals the long coiled sensory structure of the inner ear that contain receptor for sound is the cochle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ructure provide more surface area for receptor cells &amp; allow mammals greater sensitivity to pitch &amp; volume Then is present in other animals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0" name="Content Placeholder 3" descr="49_08HumanEarStructure_L.jpg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55308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cess of hearing can be summarized as follows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ir molecules under pressure vibrate the tympanic membra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ibration move the Malleus to the other side of the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handle of the Malleus strike the incus, vibrating i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Content Placeholder 8" descr="Ear.jpg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.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The vibrating incus moves the stapes back &amp; forth against the oval window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Content Placeholder 4" descr="ear3.jpg"/>
          <p:cNvPicPr/>
          <p:nvPr/>
        </p:nvPicPr>
        <p:blipFill>
          <a:blip r:embed="rId1"/>
          <a:stretch/>
        </p:blipFill>
        <p:spPr>
          <a:xfrm>
            <a:off x="4952880" y="1295280"/>
            <a:ext cx="373392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8. vibration in the cochlear      fluid dissipate  as a result of  movement of the round window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43434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ajida Batool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M.sc(III)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partment of Biological science KIU </a:t>
            </a: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505320" cy="281916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mportance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ring may initially have been important to vertebrate as a mechanism to alert them to dangerous activit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important in search for food and mates and in communication.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Content Placeholder 7" descr="ear.jpg"/>
          <p:cNvPicPr/>
          <p:nvPr/>
        </p:nvPicPr>
        <p:blipFill>
          <a:blip r:embed="rId1"/>
          <a:stretch/>
        </p:blipFill>
        <p:spPr>
          <a:xfrm>
            <a:off x="4933800" y="1484280"/>
            <a:ext cx="3749760" cy="44989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t…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ng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mans are not able to hear low pitched sounds,  below 20 cycles per second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ng children can hear high pitched sounds up to 20,000 cycles per second, but this ability decrease with ag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Content Placeholder 5" descr="400_F_24214164_WCC0rwnsJWT1hHkaubzmf0Zny0StA5qX.jpg"/>
          <p:cNvPicPr/>
          <p:nvPr/>
        </p:nvPicPr>
        <p:blipFill>
          <a:blip r:embed="rId1"/>
          <a:stretch/>
        </p:blipFill>
        <p:spPr>
          <a:xfrm>
            <a:off x="4495680" y="914400"/>
            <a:ext cx="4267440" cy="5211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uman ear has three division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middle Ear (eardrum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inn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Content Placeholder 4" descr="14304-004-6C1B7EB1[1].gif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out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 consist of th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ricle and external auditory can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14" descr="the_ear.jpg"/>
          <p:cNvPicPr/>
          <p:nvPr/>
        </p:nvPicPr>
        <p:blipFill>
          <a:blip r:embed="rId1"/>
          <a:stretch/>
        </p:blipFill>
        <p:spPr>
          <a:xfrm>
            <a:off x="4267080" y="1676520"/>
            <a:ext cx="4419720" cy="4190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iddle ear begin at the tympanic membrane and ends inside the skul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two small membranous opening, the oval and round windows , are locat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e small ossicles are  between the tympanic membrane &amp; the oval window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Content Placeholder 6" descr="Ear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2133720"/>
            <a:ext cx="3963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y include th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alleus; (hammer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cus; (anvil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tapes;(stirrup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o name for their shap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alleus adheres to the tympanic membrane &amp; connect to the incu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incus connects to the stapes, which adheres to the oval window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Content Placeholder 9" descr="ear.gif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337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inner ear has three compon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estibule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micircular can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chle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rst two, The vestibule &amp; semicircular canals, are concerned with equilibriu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movement of the fluid in the semicircular canal may cause motion sickness or seasickness in human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Content Placeholder 5" descr="Ear.jpg"/>
          <p:cNvPicPr/>
          <p:nvPr/>
        </p:nvPicPr>
        <p:blipFill>
          <a:blip r:embed="rId1"/>
          <a:stretch/>
        </p:blipFill>
        <p:spPr>
          <a:xfrm>
            <a:off x="5091120" y="1676520"/>
            <a:ext cx="359568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17:33Z</dcterms:created>
  <dc:creator>User 1</dc:creator>
  <dc:description/>
  <dc:language>en-US</dc:language>
  <cp:lastModifiedBy>LEGION2</cp:lastModifiedBy>
  <dcterms:modified xsi:type="dcterms:W3CDTF">2016-01-14T10:21:37Z</dcterms:modified>
  <cp:revision>44</cp:revision>
  <dc:subject/>
  <dc:title>Importance of hearing</dc:title>
</cp:coreProperties>
</file>